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1F5-02F0-4A3E-8A5B-4617EF04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016-FD98-4056-88FE-76C4309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0E-3B84-4F00-B295-909C231C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634-958B-4762-A1D0-F76F7F66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C9B-F507-4A32-ACD8-3FDE7E3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B1D-FB4C-4BBB-B5CC-A88B53B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CFC-1212-4FC9-97E6-EAC3F31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B27-F100-4DE2-B9DB-09F5DBD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FCA-3348-45C8-A366-F9D5F7B6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8E0-C3AF-4AB8-97B5-7B69BA25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9AB-FCE8-4EEB-86C0-C70C86E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49C-C111-4ED0-AC2F-0A03F89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622-5129-44CB-A984-DE8F17DCA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rbus Indust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Situation actu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ux projets d’enverg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1. Programme A3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 aviation civ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2. Programme A4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 aviation mili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Verdan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ogramme A380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Projet regroupant quatre pays européens : Allemagne, Royaume-Uni, France, Espa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1.1 Md€ d’investissements, 160.000 emplois en Europe (directs ou indir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ccords signés en 1999, premier vol en 2004, livraison e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Verdana"/>
              </a:rPr>
              <a:t>Programme A380 (s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Verdana"/>
              </a:rPr>
              <a:t>Programme A400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5333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rojet mené par Airbus Military Company (A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egroupement de huit pays européens : Allemagne, France, Espagne, Royaume-Uni, Turquie, Belgique, Portugal, 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ccords signés en 2001, premier vol en 2006 et livraison en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66"/>
                </a:solidFill>
                <a:latin typeface="Verdana"/>
              </a:rPr>
              <a:t>Programme A400M (s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949320"/>
            <a:ext cx="761976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9:21:21Z</dcterms:created>
  <dc:creator>Administrateur</dc:creator>
  <dc:description/>
  <dc:language>en-US</dc:language>
  <cp:lastModifiedBy>Albator</cp:lastModifiedBy>
  <dcterms:modified xsi:type="dcterms:W3CDTF">2003-04-22T14:33:50Z</dcterms:modified>
  <cp:revision>25</cp:revision>
  <dc:subject/>
  <dc:title>Airbus Industrie</dc:title>
</cp:coreProperties>
</file>